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7D5-92ED-4273-AEC9-036F1248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930-E849-43BC-9C26-09267F85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3ED-9A87-468A-BB27-02509230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982-D5B7-4A89-A87A-3C03B83E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09B-8554-4F05-BA41-4D6B21F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596-A7AE-4008-9C64-E0D61F1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035-D84F-4823-9057-CE27C155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6D8-249C-4AF6-8AA8-775488AC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D86-49C6-456F-96AD-5D64CEE6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167-41EC-438D-B787-B1A08C1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C26-9BDB-4D34-84DD-2025DCF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591-078E-4472-BF3C-1545E31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09E-5B25-40A2-A765-287F2F83A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Blackboard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nar Design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chschule der Medien Stuttgart SS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ke Kn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truktur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des Blackbo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lackboard_uml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400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hdm_Logo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truktur –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Das Blackboard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Black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waltet die zentralen Daten (Vokab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e des Lösungsraums (Hypothesen) unterschiedlichster Qualität (Rohdaten, Teil- und Alternativlösun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l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det die Schnittstelle, auf die Wissensquellen zugreif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Struktur –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Das Blackboard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mfassendes Rahmensystem der Wissensquell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liedert sich in unterschiedliche Abstraktionseben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inträge (Entries) auf dem Blackboard bilden die Menge der Zwischenergeb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 –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sensque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3094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uslö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orbedingung prü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bbruchbedingung tes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ktion ausfüh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26920" y="2420640"/>
            <a:ext cx="2881080" cy="2808720"/>
            <a:chOff x="826920" y="2420640"/>
            <a:chExt cx="2881080" cy="2808720"/>
          </a:xfrm>
        </p:grpSpPr>
        <p:sp>
          <p:nvSpPr>
            <p:cNvPr id="96" name=""/>
            <p:cNvSpPr/>
            <p:nvPr/>
          </p:nvSpPr>
          <p:spPr>
            <a:xfrm>
              <a:off x="826920" y="2421000"/>
              <a:ext cx="28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6920" y="522936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08000" y="242064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26920" y="482796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916640" y="442692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26920" y="40262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26920" y="32241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916640" y="362484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6920" y="4827960"/>
              <a:ext cx="10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6920" y="4427280"/>
              <a:ext cx="10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920" y="2822040"/>
              <a:ext cx="10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6920" y="4026240"/>
              <a:ext cx="10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6920" y="3625200"/>
              <a:ext cx="10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" y="3224520"/>
              <a:ext cx="10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26920" y="2421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16640" y="282168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276720" y="278136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160080" y="36144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206064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916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d unabhäng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5181480"/>
            <a:ext cx="45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en oder verändern das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200400"/>
            <a:ext cx="45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sen“, wann sie etwas zur Problemlösung beitragen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4343400"/>
            <a:ext cx="45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gieren auf Ereignisse auf dem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362320"/>
            <a:ext cx="45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en Einträge auf dem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ssensque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hrere Wissensquellen (knowledgesouce) sind unabhängige Subsysteme, die bestimmte Aspekte des Gesamtsystems lö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nnen zur Laufzeit hinzugefügt/ausgetausch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echnen Ergebnisse und aktualisieren das 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wärtsverkettung: Aus bestehenden Hypothesen werden spezifischere abgelei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ückwärtsverkettung: Bestehende Hypothesen werden validiert oder verwor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 – Eine Kontrollkompon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obachtet das Blackboard (zyklis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immt das Vorgehen (welche Wissensquellen aktiviert we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gebenenfalls werden hierzu Kontrollwissensquellen verwendet (Heuristik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-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lzyk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öglichkeiten des Kontrollzykl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er Kontrollzyklus ist auf den Wissensquellen implem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er Kontrollzyklus wird von einem separaten Modul übernom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roblem defin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ösungsraum defin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 Problemlösungsprozess in Schritte aufspal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pezialisierte Wissensquellen defin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kabular des Blackboards bestimmen (Version I des Lösungsrau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Kontrollkomponente spezifiz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issensquellen Implement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Problem definie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wendungsgebiet und Wissensgebiete festle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-Eingaben analysieren, Besonderheiten festlegen, Muster erke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-Ausgaben festlegen: was ist eine korrekte Lösu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wertungskrite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 Benutzerinteraktionen notwendig, wenn ja wie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eru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ösungsraum definier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sehen Zwischenlösungen a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sind Teillösungen, Gesamtlösungen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kann er strukturiert wer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st eine Lösung auf oberster Ebe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he Ebenen gibt 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ösungsraum in Hierarchien und Partitionen einteilen. Dies ermöglicht unabhängiges Arbei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 noch nicht vollständig verstandener Problembereich, für den eine gesamte Lösung nicht bekannt oder nich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sierbar 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ösungsprozess aufspalt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werden aus einzelnen Lösungen Gesamt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entstehen Hypothesen ??Wie können Hypothesen validier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h welchen Kriterien kann der Lösungsraum eingeschränk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pezialisierte WQ definier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hand von Teilaufga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zialisten für besondere Strategien oder Takt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bindung menschlicher Expe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B-Vokabular bestim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nstrukturen des Blackboards und der Blackboard-Einträge festl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ell sind Konverter notwendig, die Datenstrukturunterschiede konvert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Kontrolle spezifizieren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he Wissensquelle darf wann und wo Änderungen vornehm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el ist es, eine Hypothese zu konstruieren, die als Ergebnis akzeptabel 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en können bewertet werden. Nur glaubwürdige bleiben beste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 Kontrolle spezifizieren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 den anwendbaren WQ muss eine (mehrere) ausgewähl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fällig (meist sehr ineffizi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lösungsstrategien (Induktion, Wiederspruch, Abstandsmasse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istiken, Expertenwis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lementieru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 Kontrolle spezifizieren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s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hand der Bedingungen und erwarteten Ergeb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hand der Ebene auf der die Wissensquelle arbe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nordnung in Expertensyst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ertensysteme sind Programme, mit denen das Spezialwissen und die Schlussfolgerungsfähigkeit qualifizierter Fachleute auf eng begrenzten Aufgabengebieten nachgebildet werden soll.'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uppe 199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3080" y="3645000"/>
            <a:ext cx="1512720" cy="13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3080" y="5013360"/>
            <a:ext cx="151272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013360"/>
            <a:ext cx="1512720" cy="8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3645000"/>
            <a:ext cx="1512720" cy="13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blemlös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4836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59500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ventionelle „Programm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595008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en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kannt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wend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SAY-II: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herkennungssystem. Erstes bekanntes Blackboard-Syst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P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kennung von feindlichen U-Booten aufgrund von Sonarsign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SALIS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rarbeitung der 3D-Struktur von Proteinmolekü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ftware Understanding Syst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Beispiel –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Hearsay II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981080"/>
            <a:ext cx="770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Hearsay II entwickelte sich Mitte der 1970er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pracherkennungssystem (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hear say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ufgabe: Umwandlung von gesprochenen Worten in Textdaten mit Hilfe eines geeignete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lben, Wörter etc. liegen auf getrennten Datenba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Beispiel – Hearsay II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48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kabular von 1000 Wörtern liegt auf einer Daten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ben, Wörter, Phrasen etc. werden auf getrennten DB als Wissensquellen gespeich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kennungsrate von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auf in einer Folge von logisch verknüpften Sch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isc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wendungsberei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dverarb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herken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überwach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Blackboard –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Varia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y-Syst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 Blackboard-System ohne interne Kontrolle. Die zentrale Datenstruktur heißt jetzt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sitory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Kontrolle liegt bei externen Anwendern und Anwendung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nbanksyst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erumgeb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Klassifik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667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blachboard_bushmann%20Kopie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3736800"/>
          </a:xfrm>
          <a:prstGeom prst="rect">
            <a:avLst/>
          </a:prstGeom>
          <a:ln w="0">
            <a:noFill/>
          </a:ln>
        </p:spPr>
      </p:pic>
      <p:pic>
        <p:nvPicPr>
          <p:cNvPr id="199" name="hdm_Logo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ziehungen zu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eren Mus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9560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eziehungen_zu_anderen_mustern" descr=""/>
          <p:cNvPicPr/>
          <p:nvPr/>
        </p:nvPicPr>
        <p:blipFill>
          <a:blip r:embed="rId1"/>
          <a:stretch/>
        </p:blipFill>
        <p:spPr>
          <a:xfrm>
            <a:off x="1695600" y="1866960"/>
            <a:ext cx="5752800" cy="3124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hdm_Logo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it - Vor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ute Möglichkeit, komplexe Lösungs- strategien zu entwickeln, für die kein Lösungsmechanismus exis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 kann experiment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nderbarkeit und Wartbarke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derverwendbare Wissensquellen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hlertolerant und stab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it - Nach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wieriges Test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ine Lösungsg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inge Effizie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her Entwicklungs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lstrategien sind oft schwierig zu fin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llen (06/200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h-karlsruhe.de/servlet/PB/show/1003506/fbi-Patterns3h.pd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is.cs.tu-berlin.de/Dokumente/Diplomarbeiten/2002/sigel.pd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tbruegge27.informatik.tu-muenchen.de/teaching/ss02/muster/Vorlesung4_Architektur.pd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gcs.com/supportv2/techpapers/patterns/papers/tutnotes/sld037.htm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teccomm.les.inf.puc-rio.br/pub/docs/05_otavio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s.bilkent.edu.tr/~bedir/CS411/Slides/ArchitecturalPatternsOverview.pd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Blackboard-Muster ist geeignet für  Probl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r die keine deterministische Lösung existi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 existiert keine Strategie, wie Teilproblemlöser ihr Wissen zusammenführ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 reicht es aus, suboptimale Lösungen durch Vergleich alternativer Lösungen zu finden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lständige Durchsuchung des Lösungsraums ist in akzeptabler Zeit nicht durchführb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Anwendungsgebiet ist noch nicht vollständig verst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ösung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mlung unabhängiger Programme, die miteinander  zusammenarbei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s Programm ist unabhängig und auf die Lösung eines bestimmten Anteils spezialisie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e direkte Zusammenarbeit findet nicht stat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ösung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e zentrale Kontrollkomponente evaluiert den aktuellen Zustand und koordiniert die Programme. Deren Teillösungen werden kombiniert, verändert und verworf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e Moderator-Komponente bestimmt die Zusammenarbe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hdm_Logo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es Beisp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phorically we can think of a set of workers all looking at the same blackboard: each is able to read everything that is on it and to judge when he has something worthwhile to add to it. This conception is just that of Selfidge's Pandemonium: a set of demons each independently looking at the total situation and shrieking in proportion to what they see that fits their natu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ell 196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wissenschaftler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965400" cy="3292560"/>
          </a:xfrm>
          <a:prstGeom prst="rect">
            <a:avLst/>
          </a:prstGeom>
          <a:ln w="0">
            <a:noFill/>
          </a:ln>
        </p:spPr>
      </p:pic>
      <p:pic>
        <p:nvPicPr>
          <p:cNvPr id="71" name="hdm_Logo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es Beispiel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Interactive Room Uni Stan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9056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9160" y="6248520"/>
            <a:ext cx="74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lackboard Pattern • Seminar Software Design Patterns im Studiengang Medieninformatik der Hochschule der Medien SS 2004 • Elke Kn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2057400"/>
          <a:ext cx="50799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079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hdm_Logo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14637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40:11Z</dcterms:created>
  <dc:creator>Elke Kniesel</dc:creator>
  <dc:description/>
  <dc:language>en-US</dc:language>
  <cp:lastModifiedBy>Elke Kniesel</cp:lastModifiedBy>
  <dcterms:modified xsi:type="dcterms:W3CDTF">2004-07-05T17:38:33Z</dcterms:modified>
  <cp:revision>147</cp:revision>
  <dc:subject/>
  <dc:title>Blackboard Pattern</dc:title>
</cp:coreProperties>
</file>